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CE4C-AD93-4576-8756-0B0B9D5A72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3C09-82B2-4C18-8E9D-1FF9AD9F4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E100-536D-437B-976D-CAB178F14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FEEE-7FB8-4828-A2A8-904DE87C6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B505-12C9-4C7A-9C55-F57552C21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379A-B0AC-4D9C-818D-2BEFE7ED7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F412-EBB6-459C-86FC-4921305A0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C164-63E2-4928-988F-32031C40F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7624-8EF2-4EFD-832B-F9ACD9794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D515-75B4-4021-A57A-8E346371F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C7B5-94A0-421C-8A43-5B1523044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5C61-8437-42A2-97F6-472DEA321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493A-2907-423A-9DC1-D713D29E0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278D-8EA0-475C-8528-DE7C80130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77C7-6D84-4636-8E53-5BE33638A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FA29-CE77-4A3F-B05E-27C6BCB9F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B169-4960-422C-BDA6-A2C7EF54A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60ED-FC2F-4A29-B7CF-3C090EBC9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75FA-6A57-4B9A-A03C-BE0D29B64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E4D4-2DDF-466C-BE23-4821BE994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1E34-D13A-47ED-89A3-6E9A8F034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8376-9965-479B-80B9-62B596931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ADCA-9A3C-4165-BDBD-9DB84AFEA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F010-34D5-4F86-A9EC-03FBF985C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9C27-AF04-48D4-A7D9-F74FCC2A2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CE3B-B757-40E1-B762-E73704B7C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390B-824B-45BF-AA3B-C68E53333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089F-DD43-4F56-87A2-39F5FEDB7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5C43-3433-431D-BF50-4C306FCB4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8E2F-7BB6-46B9-B026-B064C7F6F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96B5-C4C2-4CC0-A029-7EAB97735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CD51-6573-4868-92BC-CC33B94D0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0598-A0A9-431F-9BF7-0DCEA09A7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B620-A413-42BC-946E-C85D61CB8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24CA-F636-474B-ABC1-50EC9A4CB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00B5-366A-403A-A0C3-AF9EF63F9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23D7-9293-4E50-A291-3690CBF65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BFE4-2DA7-4E7B-AC1B-A50A6B306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DA5C-3A0B-4B00-9B68-8D6CB192F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EA59-B43D-49CE-9536-F69A75427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F73B-55FD-45FE-BFD3-82CEF2177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1ADE-F00D-4E2A-BB2E-27E1E4153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936-A050-4A7C-A34A-5099918E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BB6-6CF7-49DC-BEC9-C4E04DD4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C89-CFA1-4175-A4A6-22722306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0F37-9CAC-4AC9-9901-B7CC8496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1D7-EF3D-4BEE-8148-55C37399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898-2440-4A15-9E82-D17AA647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A44-9EBE-4834-9BBA-0C03EB99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090-BA06-4C8E-85CC-B0A15CF7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AA2-8B93-4F74-B4E9-EA65865D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912-652C-425B-9AD2-CFA6E6D5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0D8-521B-41F2-911A-7491FED7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8CE-1132-4CE4-9511-5C25D492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3D2D-34C6-4EB3-AEC6-B58DFE66B8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88C5-6C30-441E-AB56-81D18499B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605160"/>
            <a:ext cx="9144000" cy="661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ich question would ecologists most likely research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do point mutations effect protein synthesi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do aquatic plants react to pesticid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chemical structure of sucro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does color in petunias pass from parent to offspr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All of these characterize most laboratory accidents except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elessn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B. lack of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.   Inappropriate behavi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D. reduced risk-t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pyram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10%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energy is passed between each trophic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 much more energy is found at the bottom than at the 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logical Niche/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ic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an organism’s role in the environment (birds on different parts of the tre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abit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hysical location (an organism’s ho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tu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iotic relationship in which both organisms benef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in-W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Flowers and bees (bees get food and the flowers get to reprodu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ns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iotic relationship in which one organism benefits and the other is unaff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in-unaff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Barnacles on whale (the barnacles get food and the whale does not know they are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sit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iotic relationship in which an organism feeds off a h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in-l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Tapeworm, tick, hookworm, le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iome Brochure Friday. (Feb. 18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rd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304560"/>
            <a:ext cx="9144000" cy="704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ich statement best describes an activity that will contribute to the maintenance of homeostasis in an organis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 desert rattlesnake enters an underground burrow on a hot summer da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 shark swims toward a highly polluted region of the ocea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Roots of a willow tree grow away from a moisture rich region of the soi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 polar bear sheds most of its fur during the coldest months of win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. Which of the following would be the niche of decomposers in an ecosys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eak down nitrogen and oxy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eak down waste and dead mat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rovide nutrients for carnivores to make ener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rovide nutrients for omnivores to make ener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320" y="1143000"/>
            <a:ext cx="861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y flip-fl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ctice Multiple Choice Question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y Po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-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for Ecology Exa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Notes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rgan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cosyst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sphe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Down Arrow 3"/>
          <p:cNvSpPr/>
          <p:nvPr/>
        </p:nvSpPr>
        <p:spPr>
          <a:xfrm>
            <a:off x="4495680" y="5181480"/>
            <a:ext cx="381240" cy="45720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4495680" y="4419720"/>
            <a:ext cx="381240" cy="45720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own Arrow 5"/>
          <p:cNvSpPr/>
          <p:nvPr/>
        </p:nvSpPr>
        <p:spPr>
          <a:xfrm>
            <a:off x="4495680" y="3581280"/>
            <a:ext cx="381240" cy="45720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own Arrow 6"/>
          <p:cNvSpPr/>
          <p:nvPr/>
        </p:nvSpPr>
        <p:spPr>
          <a:xfrm>
            <a:off x="4495680" y="2743200"/>
            <a:ext cx="381240" cy="45720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7"/>
          <p:cNvSpPr/>
          <p:nvPr/>
        </p:nvSpPr>
        <p:spPr>
          <a:xfrm>
            <a:off x="4495680" y="1905120"/>
            <a:ext cx="381240" cy="45720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1320" y="1143000"/>
            <a:ext cx="861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y Quiz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ctice Multiple Choice Questions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y Review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-U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-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same species, same place Ex: group of bears in my backy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-different species, same place Ex: group of bears, beavers, and deer in my backy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cosyst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ifferent species + abiotic factors in the same place Ex: group of bears, beavers, and deer in my backyard and the sunlight and w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me-similar climate conditions and characteristic plants and animals Ex: des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sphere-basically the enti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lan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cc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ucces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series of changes made to a community after a dis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-starts from scra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by: volcanoes and glac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econdary-starts fr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isting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by: forest fires and hurric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nential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hape)- the individuals in a population reproduce a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nstan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stic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hape)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rowth slow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stops following a period of exponential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rcRect l="0" t="7815" r="0" b="7815"/>
          <a:stretch/>
        </p:blipFill>
        <p:spPr>
          <a:xfrm>
            <a:off x="4648320" y="39625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rcRect l="516" t="0" r="516" b="0"/>
          <a:stretch/>
        </p:blipFill>
        <p:spPr>
          <a:xfrm>
            <a:off x="457200" y="39625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 population shows exponential growth because of improved medicine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ani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health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ing factor-something that causes population siz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types: Density-dependent and density-indepen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-Dependent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ends on population siz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ts worse as population becomes more den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ompet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seas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d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asiti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EMBER: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’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iranha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-Independent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depend on population 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matter how big the population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m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onal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su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ural Disa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ator-Pr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ator-prey populations mirror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da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organism being e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67816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mpet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Occurs when two organisms want the same resource at the sam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Two lions fighting over a ze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47116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for Ecology Exa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Notes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cology Po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685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vide your paper into 4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 each square, draw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426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logistic graph (labeling axes with units and carrying capa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426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 exponential graph (labeling axes with uni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426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food chain with pictures (labeling a producer, primary co., secondary co., and tertiary co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426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 ecological pyramid (labeling a producer, primary co., secondary co., and tertiary co. and starting with 5000 joules of energy at the bottom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676440"/>
            <a:ext cx="9144000" cy="63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Which of these statements is NOT tru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rocess of succession resulting in a climax community always happens within one ye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condary succession happens in areas where organisms previously liv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imary succession occurs when communities populate barren la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cological change does not always equate with destru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The carrying capacity of a given environment 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pendent up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ycling of materi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. The availability of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ilability of fo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D. Daily temperature fluct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1320" y="1143000"/>
            <a:ext cx="861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y Word Scram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y “Qui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Ecology Po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ctice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-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-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for Ecology Exam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Notes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ety =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iodivers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he total of the genetically based variety of all organisms in the bi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572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 activity can reduce biodiversity by causing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itat De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ildlife Products De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Pollution (DD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vasi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41911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chael Barron of the National Park Service took this picture of a carcass of an alligator as it protrudes out from the body of a dead Burmese python in Everglades National Park, Florida. The Burmese python is an invasive species -- 144,000 have been imported to the U.S. in the past five years for the pet trad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5486400" cy="3934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722400" cy="2895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5105520" y="0"/>
            <a:ext cx="215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tin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when a species disappears from all or part of its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angered species-a species whose population size places it in danger of exti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nserv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the wise management of natural resources including the preservation of habitats and wild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zo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yer-the atmosphere between 20-50 km above Earth’s surface and protects the Earth from harmful UV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adiation causes sunburn and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es in the Ozone layer have been discovered above Antarctica.  These holes were caus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FC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chlorofluorocarbons found in aerosol cans and refrig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organis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main typ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totro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producer)-makes its own food must rely on itself to get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terotro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consumer)-cannot makes its own food must rely on other organisms for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reenhou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ffect-where radiation produced by the atmosphere warms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lobal warm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he increase the average temperature of the bi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idence: 1. melting polar ice 2. increased carbon dioxide levels due to burning fossil fu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s: 1. rise in sea levels (flooding) 2. increase in global temperature 3. Organisms go extin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What processes get water from the earth into the ai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iration and Evap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ras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bbit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w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is the primary consum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b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s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bbit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w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is the autotrop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Carbon from the air is made into organic compounds through which proc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Organis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terotrop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rbivore-eats plants Ex: de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nivore-eats meat Ex: wo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mnivore-eats both plants and meat Ex: hum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omposer-breaks down organic material to get energy Ex: Fung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Scaveng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eats organisms that are already dead Ex: vul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crease in the overall global temperature is called w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W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tudy hard and smart tonigh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f there is no struggle, there is no prog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Who said that?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MBRACE THE STRUGGL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304560"/>
            <a:ext cx="9144000" cy="707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n epidemic of black plague hit Europe in the 17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th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entury and killed many people in the urban areas but not as many in rural areas. What type of limiting factor is thi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. Density independent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. density depen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. Competition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D. pred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bottom layer of the pyramid can be described a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eterotrophs, producers, smallest amount of energy, largest number of organis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utotrophs, producers, largest amount of energy, smallest number of organis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utotrophs, consumers, largest amount of energy, largest number of organis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utotrophs, producers, largest amount of energy, largest number of organis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7086600" y="1407960"/>
            <a:ext cx="205740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1320" y="1143000"/>
            <a:ext cx="861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y Ex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icle 4 Work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-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541440"/>
            <a:ext cx="9144000" cy="710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sentence best states the importance of using control group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 groups provide a method by which statistical variability can be reduc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 groups allow comparison between subjects receiving a treatment and those receiving no treat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 groups eliminate the need for statistical tests and simplify calcul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 groups eliminate the need for large sample sizes, reducing the number of measurements need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A country that has a stable population is characterized by an age structure that is____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st among post-reproductive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out the same among all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st among pre-reproductive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st among reproductive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1320" y="1143000"/>
            <a:ext cx="861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urney to Planet Earth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T Letter to Ob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ff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trient Cy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hotosynthe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es carbon dioxide and energy to produce oxy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ellular Respir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oxygen and energy to produce carbon diox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 dioxide is also released while burn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ssil fuel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in fac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trient Cy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pitatio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ranspiratio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en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trient Cy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trogen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acter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i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itrog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meaning they can bring it out of the air into a form the plants can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dul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plant roots contain this nitrogen fixing 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cteria on the roots get nourishment and the plants get nitroge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TUAL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ss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Rabbit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Snake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Hawk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er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Primary Consumer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ary Consumer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tiary Consu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troph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Herbivore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Carnivore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Carniv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troph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Heterotroph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Heterotroph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Heterotro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2:11:34Z</dcterms:created>
  <dc:creator/>
  <dc:description/>
  <dc:language>en-US</dc:language>
  <cp:lastModifiedBy>Angela Gorney</cp:lastModifiedBy>
  <dcterms:modified xsi:type="dcterms:W3CDTF">2011-02-18T15:43:04Z</dcterms:modified>
  <cp:revision>9</cp:revision>
  <dc:subject/>
  <dc:title>Warm-Up / EOC Prep</dc:title>
</cp:coreProperties>
</file>